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47FD-57C0-4574-8316-454BB7229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A2CA-37B9-4245-B2E4-F93DC9CF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CBF4F6-59D0-4574-93CC-CA8BCAA0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913BA-F89A-4CFA-8910-0313F356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3F1D64-0A79-4C47-A9A6-6EBDF164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4B56E-825E-4BF1-82FF-9CDDD1C8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CD48B-9DC8-4719-90F1-E50AFEF1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987462-C33F-4330-984D-909828EC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23896-F413-4C09-A6F5-4E7C2602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143DE-19CC-41A7-8B9F-B75609469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77B1B-F305-4406-848F-94B8AE4A6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922330-DC72-4F79-B5CE-062F92E2E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B41C-CA94-4E2E-B7B0-EAC04AD15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3198B0-94A7-46C4-81A7-7C556AFE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F2DBE-F53F-4A7A-8A4F-53D4C28D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23FCA0-AD82-4EAB-875E-A4079DC3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31CDDE-6630-41FD-AE27-587C6F75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9C5C9D-F2C1-4AB2-B10E-EA2681F5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B872F2-74B6-4D35-80F8-934E1A38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420D5-3EAA-4E1B-90E0-8708D825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CC2993-75D4-4A0C-8DA9-C3CAF09F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F8439-B7F1-4F5D-93F5-52F1E93E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7527B1-8F61-4235-8EA0-F7F6A5C2D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9ED0-C5D2-4789-98DA-D59077882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BC865B-CBF1-4E53-AB77-759F710D4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2F0FB-A043-40FA-B37B-6F20DB247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9AFC8-18B4-45EE-A71B-2736EF83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86308-CDD3-4F4A-93ED-9DE64813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ACA04-D0F9-47F4-A701-E781F2BE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8701B-B48A-44A3-B208-1ACC46BF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227AD-8053-4E70-AE3B-3E563277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54143-1C9E-4393-B29D-88983F2E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FE4C8-77A7-4432-8F7A-91B717E9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86575-0A5A-46C7-9249-33DF866E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999B-3716-4A81-93F3-3FB346AEE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3D69E-AC3E-48AB-A7F2-D6AAA5A3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B7963-694C-4CE2-859A-4BE14B940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5A16B-B177-4B32-AA20-9DFAB6841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91C4FA-036C-4E3D-9F2F-38459AB04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A7E98-EF3A-468E-8F75-562919E5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92623A-3909-4570-BE94-68EE1441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E52235-3328-44B0-A69A-9AFB6F60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5CDD59-0BF7-473E-8D41-528EA127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914EFA-CF5C-45EB-8D77-D0F73EB2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8A9E78-DB73-4379-A1DF-24494F34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CEBB-AB84-4172-9C14-7B8FC1A5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14F867-53A9-43AA-A191-65B3414B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C29C0-707B-4357-8E16-AAF37EA3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668C8-2BBC-4C10-A842-12346FF1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FE0C9B-23B2-46C9-9D41-5B1FE1AC2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EAAED6-4561-41E8-9E95-1B6341AAE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D9718B-F046-47B2-9189-6ECCAC545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F585AF-FD39-498E-B1A6-479F7AF8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E79B9F-1F6B-4FE2-828A-F69A4939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FE457F-9BFF-4330-A84A-637BCC04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55342A-28FD-401B-B017-05CF761E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6A42-1E54-40ED-9C64-E5795906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C1B29C-73BB-4F27-B911-13DDB8B8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C34516-DCE5-4918-9827-C08C7A6A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D5FE95-1FB6-43F6-AC89-785449A4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FCA1F0-B4B4-4BB6-B902-1F9DFD05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431A1C-62B6-49BA-B44E-C5CE6D03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91E1E7-C460-4EAB-AC5E-6AB972F6F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FECC18-BE3F-4CB8-9D52-F29AA704C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ECD2DD-E7F0-41A3-91E2-4E9D3F7F2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BAE714-2462-4CBA-854A-52F0CA0A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8DD4D2-534D-4113-BDF5-99018138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21B4-0C7E-479E-A6E0-AEEE02A9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4106C1-C2C4-4CFD-9A1D-BFD84F8E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9E2AF6-34EB-4BE9-84FB-95F257DC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ECEA52-703C-4526-88A3-858BB0E0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3DB520-8336-4895-A5DE-06696885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6C508A-2912-4612-AE8D-BA5CBFB2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005B1F-0508-4F6F-A11C-5BE92D74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DCDDB9-D6B1-4620-B64F-4C02DD11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7635AD-1E10-41AA-9EF3-0E05A5B34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34671F-C9F4-4B8D-B109-0FAA25305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728597-50E8-463F-9750-7BE35B69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4EF5-7755-46F7-9EBD-32053BFE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EC2F81-474C-463E-8268-388834AD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DD8DB1-E447-4CF2-ACF5-A4AAB122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D8BEC2-36E4-44F4-A5EA-723E7C84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9F38CD-DF08-47D1-991D-A4801639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382A8F-C6D1-497C-9530-2086D123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17CDA3-6B7A-4230-9EFD-E08FD6DE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2307C0-874D-4AC6-96B0-749B3D0B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6E9EE3-59F5-4488-9F80-61F90931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954BB5-6C3F-4341-AA78-09CE4EE3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DCBA21-017B-406E-B210-F3F56A196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ED96-29CA-403C-950B-5583EAEB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797358-4CAB-40E2-BD92-98FD8E99D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476720-64F8-4042-9D24-D0182B284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B8FC0A-9D39-4DFE-94D0-ECE9B7D3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4F8B39-0929-4F77-9D09-41A01C51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545589-0950-471C-AF2F-F8556C50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006E38-9AE1-471A-A000-B9B07EEF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CF4C88-2D89-4D49-AF89-00803F93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6146BF-AE52-4D09-BABC-283DD464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42D418-F321-45A3-B006-2862EA61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DE694F-DF88-47E1-9640-5F28420E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E1DA-635F-4ADE-A298-DC0BED7C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B2F8BC-BE6A-449B-A523-3C80D832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A5C8E8-D7AE-4237-9205-0C3A51647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6CE060-3AC3-4B42-B61F-DFCCB7925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E877E6-C852-4AC7-8B16-A67AE1772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0B4D3D-2D24-4BB0-BAE8-D838C39B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17A959-B452-4A78-B28B-6A04591F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AE28A8-2C99-4118-ABE3-28E7C4D6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07676A-FDD4-4467-BB3C-88BF4456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CE9854-7D5D-4F33-94E1-37DD1CD8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44D93C-5294-4BCD-9EC9-56C9A375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B23D-27CD-4386-96D4-40A19767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A798-9C83-4E7C-9BFE-81D216DD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7DBB1E-A713-4FE8-9622-39EC9E04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653773-31AC-4D21-9152-54C39668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4C4AA3-D651-4BA5-9678-02E4E263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023E1E-7272-451E-BC04-29B00B47B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CFC5DA-BED3-400E-A3F7-4D4C1FC7E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E7F5CC-87E4-4F89-A0AC-055F7B7AF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9E5F24-D9C5-411D-BA45-9A72E0B6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9A3D8F-7FB6-47D5-8753-A3A9A99E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84419E-67D6-499D-BB39-F38291E5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9438DC-7749-4203-8F21-179507BA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9E52-FB47-4DBD-B60D-657E52F2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508A09-EDA4-433E-A31E-649F7C7E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A00E3D-18A5-4B7D-B16B-1F3F6662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5F85AF-021B-4E7F-B642-A752D42D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D51C17-0727-41AC-B35E-BFEA4D9B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5BEDC4-6A30-4EF6-8697-0B5108BE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DF47F6-F31B-4FA1-B7FA-94F75DB52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DCD51A-736A-4EF4-9055-1C16D4F4B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1593C0-782B-4424-8CC7-97A551FC3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B1646D-8D4C-405C-B909-74B1D124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9C45EC-E919-4278-B409-F8F0D0B0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2522-1C5E-43A6-9A58-FA0A4A31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470318-8A6B-4AEE-BAE2-C684F377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A22EF3-7147-49D9-8DBA-788C226E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8FBDA7-0B9E-4FEE-B4E5-BFF2182D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F7C5EE-8FD8-4A8F-8A1D-58D3D46F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42C6C9-614C-471C-9D55-4C845BF5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EEF445-EBA8-4309-A11A-572187D9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91B43E-D0D1-44FC-B002-6707145D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DE67C9-FCB9-4C7C-8022-B8312FE81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69F03F-1F3B-47EA-AD13-26EC5B99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692492-00C6-4766-AD60-2F4C45DD7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EDDA-706B-433A-A491-5EC8FD40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DC2F62-710A-480D-8310-EDA71605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F3E33E-1405-4968-90F5-D805E621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429866-80A7-4886-AE9F-ABF7289A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CD2615-9272-48FE-93B9-47AA90B0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F4060C-06F3-408A-9BC6-C7E3905A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9F218E-6E22-46E8-9967-9D0254F4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6A1F22-8E7E-4C24-9498-34E1EE66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94F7F2-F31A-4FA0-99B8-30C2616E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983685-4DD9-4908-A717-7A57AE7A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AB5F13-07D7-4DE9-82AF-CD9CE38C8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F235-B2A1-4123-8AAE-76F541E8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BC6BF3-45D4-4620-A372-FA0CF008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088E8A-3119-48B1-A217-4BB3E0790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C85D79-FB0E-4BC3-A8F6-36BF81D5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227ECB-60D9-4927-8ED4-0EB2EEBA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A920B9-876D-4BE9-95C6-2322B1B2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49DDE6-0AC7-4371-952D-512D45AA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3DE8D9-FB91-4A65-B370-B17A3B33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90D9C0-930A-429A-AB6D-A8DC9F01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D0F3D6-A23C-44BC-A636-94D1C413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D80C3A-3941-46A1-83DC-0C64591C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4E533-CC2E-421F-AA96-CF638935A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C5C3B0-D4EE-4091-AD29-A9161B47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733B02-75AF-4BDF-9511-84F96020C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97DA41-2F06-4CF3-BF5F-1330F8E8C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03701-3FCF-4B10-B7D2-884F173B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70CF6-9C67-4A56-A983-2A59C107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AA83F-CDB7-420C-A91A-5F0C2DA2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A5ABA-ADFE-43E2-8EE4-2A15D3EB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1187-7187-4A07-81D8-8C93AACE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9D74F-A9EB-4214-B4C3-D56AAFBA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BF932-22A8-406F-ACBA-25021FD1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F8217-0DDE-4745-8856-F7189E06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71E55-3A2B-4302-8FD8-877DABFD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CE59F-7677-4BF7-B162-363A5B43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0D80F-CC94-42A9-AE55-96773DD5E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ECAF3-8288-4C17-99C2-B6A76403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2C5D8-693F-4FFE-B452-1BE6101D6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65A54-735F-4E5A-90DB-484180E3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409B8-CFB4-43A0-AD12-114A4F96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862E-5FC2-4EDD-8782-E010480E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0EB3B-B4C6-4E7E-821E-FF68E192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B11A8-91D6-4160-9B17-78A560A1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916CA-3E2E-47C6-B2D1-14B661E5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F46E8-9F3B-47AC-88CE-70456873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E0200-1442-4EDD-B350-B59A5481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E10BA-BDB5-4A67-B38E-5C0C335E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8ABBE-A9B5-4CDE-B333-1567B57E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E7320-5568-48B0-894D-91022EADA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80DD3-7A60-4E16-8F72-C61D1471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FE743-DFDA-495D-BF80-723CE4BC6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5735-9E42-4E31-B1F8-4A6B37FF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3DEF1-4661-4A27-8D83-36C5F858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4B2C8-E55D-4A44-BB4D-DF566CC5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87862-AABF-48DC-8152-1B03A386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D64C4-1153-4F83-85DC-D3A317ED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604A9-D270-45BF-A18F-7338E950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33FB3-CBA6-437B-B22B-27E1FF63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19729-7667-4889-B521-A4F8AEAD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54AC9-B0CD-4E97-B172-A83B7DCC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8CDBD-7A41-4236-872F-6F81BA04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59599-3CB5-4B8B-A520-0CCABF81E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FCBE-A5B4-48D2-B1B4-D0D9A302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2FA2B-2C6D-41DA-B920-72B121A2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D0720-B6D2-4F11-863F-420E80A91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A61DA-613B-499C-99EF-B96D9880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16AA9-3A08-490E-9EEF-C4FD52E3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58E1E-B5BD-4259-B7D3-E970278E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C87A8-F485-4BEF-BF0B-416DE19C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8C072-797D-4DA5-BB71-004D448D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CC819-16DB-4BF9-BA3C-5C2618F9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E7BE5-DF27-4F49-90AB-36EDA373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5E60A-323D-4B7E-B9C7-9EB59160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0603-2276-4E5D-A3D8-7B9F383B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49ECC-4419-4E13-881D-896FE351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A3813-AA25-4987-8E6E-F45198CD7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E8739-6C16-44CE-8858-E77EC3AE3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15BF3-62B7-4F7B-9358-32554EBB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2401B-E0C2-483A-93CE-2363A5D0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73BA4-F291-4FC9-A548-44CA3184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CAC5A-B239-4709-870B-61F27713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1613C-F000-4703-B652-7F6EB015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F87A9-730A-481A-BD02-CB24413A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37F41-EC70-4236-A074-F30C4207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3A18-D357-4F44-9719-05ADDF32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55A7C-E0B7-4DB4-BB32-8B8D9C59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7D13A-41CA-45C9-8FEB-9238E9A8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14F87-AE98-491D-9F1B-8E2244BE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D7962-6EE1-49FC-8EB8-39D9E2344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80BD6-0244-4625-8788-C7EA08DA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3F934-3333-4D92-BAA8-D85D6A240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2B802-CBDC-4395-8F60-356B66B1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706C7-15D4-45AD-89F6-63F3045C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2B9B8-74CD-44FB-A26B-1FAC994C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CE3EC-4F09-4023-808F-3E712A0F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C6AC-0EF8-4219-9713-0C6FDE68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BDE25-4455-418F-8B58-E3B7B6AF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F5AF5-22AF-4C78-B0E7-4E64E829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FC9AF-02D8-4CC1-B4A0-C169036E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AD3E1-8858-4F4D-BB5F-FD87889C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39923-5945-49EC-894D-DE3B60AB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2F5C0-B4D2-4773-8F64-9B373C400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E656C-337E-49EA-B49E-6CFF7DE88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790DF-8FF4-4B60-9440-F1A39678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ACCC0A-05D9-4599-83F6-1AE82B3B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723A09-91B4-4C88-A773-95658E4C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F963-790F-443D-9582-C266193878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1CC0-CDEE-4988-B29B-A08AD3BDE8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EDDD-91AD-4BC1-A9EA-06F1AC0D3B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1A38-C56F-420D-8E57-42CD36DECB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F5E8-BBC3-484F-97C2-77598B30A4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5A1E-8FDA-4A4E-B7C4-8638E751A9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E19C-D164-42CF-BED8-117AC6DCE2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BC6D-86DC-48B5-81D9-748A3AB224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71F7-8260-456E-86B0-C3CAC8FE96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9E19-6118-459B-A07D-89A14F8EAF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41DE-48DC-40E0-82EA-3510840282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794E-A067-47C7-BB58-E35244C3AC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002C-19EF-4276-BBDC-C661423361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47F4-D399-4F2E-8EC2-7CCACF80F1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874F-D8C6-4CC2-9278-38DBEAF9D6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E922-AF1E-4DC3-A328-0F71C2D1E1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70E0-E49B-4ED5-88DE-D674234DD1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2D87-D8E4-4B3D-81C2-A1AC4843FA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DFFB-5B99-4C99-AE81-C7C51A61C1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7356-0A31-4A83-A35C-97B0BBE827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EAC1-9907-4EA8-ACBB-5B70022585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B075-51B0-495A-B0A9-2D592A2008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0706-610D-48B4-84C3-5C8266C615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37CB-059A-46D8-8A98-5196AB328E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1CE5-2BD4-4606-8094-151560470C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D802-0857-462D-A8D6-E291C4B869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F262-D86F-42BE-B1F8-F9785E0B06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2C69-A24D-43B2-8672-9D4E53C592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7824-A876-447D-974F-BA303C3A0A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DAD4-B751-4137-A701-97804E5617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9152-C425-400B-BBEE-5FD64B0783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FB7D-6BD6-4FFA-8FBD-61BE48E4DF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7285-DA52-4EE4-94D3-743AE5FD7B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CFD6-DE0D-48C4-9366-0B19C8E7FC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8402-BE40-4D35-AD54-62ABC8F556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2165-0A52-4CD6-9775-53316FB577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5A37-FA58-49F4-8F1E-46ED0C5CE2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7BC6-4DEE-497E-BF56-E979F90C07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8671-39CC-4FF1-934B-9ABCE7CFE7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20F6-B8E7-46F2-A310-BD8CF495F3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509760" y="3005280"/>
            <a:ext cx="812448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69633" descr=""/>
          <p:cNvPicPr/>
          <p:nvPr/>
        </p:nvPicPr>
        <p:blipFill>
          <a:blip r:embed="rId1"/>
          <a:stretch/>
        </p:blipFill>
        <p:spPr>
          <a:xfrm>
            <a:off x="147600" y="727200"/>
            <a:ext cx="8848800" cy="60865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826920" y="5516640"/>
            <a:ext cx="5113440" cy="4474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826920" y="6296040"/>
            <a:ext cx="80661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68609" descr=""/>
          <p:cNvPicPr/>
          <p:nvPr/>
        </p:nvPicPr>
        <p:blipFill>
          <a:blip r:embed="rId1"/>
          <a:stretch/>
        </p:blipFill>
        <p:spPr>
          <a:xfrm>
            <a:off x="133200" y="1171440"/>
            <a:ext cx="8877600" cy="45151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2"/>
          <a:stretch/>
        </p:blipFill>
        <p:spPr>
          <a:xfrm>
            <a:off x="826920" y="3773520"/>
            <a:ext cx="46818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09440" y="1676520"/>
            <a:ext cx="89251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59410" descr=""/>
          <p:cNvPicPr/>
          <p:nvPr/>
        </p:nvPicPr>
        <p:blipFill>
          <a:blip r:embed="rId1"/>
          <a:stretch/>
        </p:blipFill>
        <p:spPr>
          <a:xfrm>
            <a:off x="585720" y="757080"/>
            <a:ext cx="7972560" cy="5343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6372360" y="3500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6372360" y="508464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8374" descr=""/>
          <p:cNvPicPr/>
          <p:nvPr/>
        </p:nvPicPr>
        <p:blipFill>
          <a:blip r:embed="rId1"/>
          <a:stretch/>
        </p:blipFill>
        <p:spPr>
          <a:xfrm>
            <a:off x="833400" y="1857240"/>
            <a:ext cx="7477200" cy="31435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6156360" y="2421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3"/>
          <a:stretch/>
        </p:blipFill>
        <p:spPr>
          <a:xfrm>
            <a:off x="6156360" y="400536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7352" descr=""/>
          <p:cNvPicPr/>
          <p:nvPr/>
        </p:nvPicPr>
        <p:blipFill>
          <a:blip r:embed="rId1"/>
          <a:stretch/>
        </p:blipFill>
        <p:spPr>
          <a:xfrm>
            <a:off x="833400" y="1190520"/>
            <a:ext cx="7477200" cy="44769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3492360" y="1413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3059280" y="213372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6156360" y="2060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5"/>
          <a:stretch/>
        </p:blipFill>
        <p:spPr>
          <a:xfrm>
            <a:off x="2700360" y="3573360"/>
            <a:ext cx="2232000" cy="4478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6"/>
          <a:stretch/>
        </p:blipFill>
        <p:spPr>
          <a:xfrm>
            <a:off x="6084720" y="381780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6324" descr=""/>
          <p:cNvPicPr/>
          <p:nvPr/>
        </p:nvPicPr>
        <p:blipFill>
          <a:blip r:embed="rId1"/>
          <a:stretch/>
        </p:blipFill>
        <p:spPr>
          <a:xfrm>
            <a:off x="528480" y="1380960"/>
            <a:ext cx="8087040" cy="40960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4702320" y="15620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4500720" y="2031840"/>
            <a:ext cx="863280" cy="4860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2598840" y="4579920"/>
            <a:ext cx="411948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5300" descr=""/>
          <p:cNvPicPr/>
          <p:nvPr/>
        </p:nvPicPr>
        <p:blipFill>
          <a:blip r:embed="rId1"/>
          <a:stretch/>
        </p:blipFill>
        <p:spPr>
          <a:xfrm>
            <a:off x="433440" y="1514520"/>
            <a:ext cx="8277120" cy="38289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971640" y="2793960"/>
            <a:ext cx="5400720" cy="4478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971640" y="3471840"/>
            <a:ext cx="5400720" cy="4478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1087560" y="4091040"/>
            <a:ext cx="780552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4276" descr=""/>
          <p:cNvPicPr/>
          <p:nvPr/>
        </p:nvPicPr>
        <p:blipFill>
          <a:blip r:embed="rId1"/>
          <a:stretch/>
        </p:blipFill>
        <p:spPr>
          <a:xfrm>
            <a:off x="76320" y="1352520"/>
            <a:ext cx="8991360" cy="41529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755640" y="3933720"/>
            <a:ext cx="5472000" cy="447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826920" y="4724280"/>
            <a:ext cx="5472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2231" descr=""/>
          <p:cNvPicPr/>
          <p:nvPr/>
        </p:nvPicPr>
        <p:blipFill>
          <a:blip r:embed="rId1"/>
          <a:stretch/>
        </p:blipFill>
        <p:spPr>
          <a:xfrm>
            <a:off x="181080" y="1438200"/>
            <a:ext cx="8781840" cy="39816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826920" y="4048200"/>
            <a:ext cx="5329440" cy="4474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826920" y="4826160"/>
            <a:ext cx="53294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07:56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